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37C-4583-4166-935B-46D68293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FEF-FC7C-4F0C-BAAE-CA86FC16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D8B-B4AD-4564-956C-5B80EE99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2F5-A220-4875-BAC3-FE835681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52C63-669E-4D66-BD07-82767F31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DD25E-4A6C-48E7-BD5B-967BFAD9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6B75B-DA47-4C53-A4B2-C17080C6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79C79-4B25-4C64-992F-B0A24E57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DF40E-C3D3-44F4-A354-DB4D1C10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A4D7B-12D8-45AC-8D95-A8C53AA2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90820-AB1D-49F1-B3F6-95DF10A2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B64-C48C-4FF4-AD7D-CF7DFB20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87130-5EAF-4FAA-9606-6EBDD73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37C47-A6AC-4B04-9DBB-5CBDC95A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B075D-11EF-4003-99D2-5C15EC0D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EB4D1-814F-4DEE-AA67-0E5FC655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03C36-7FEA-4DDA-850E-CF992C49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EF5-2F10-495F-A026-F36439B5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E92-B44F-4A8A-AECF-7A5F5103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317-3B04-4C2C-948D-FA20B776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4E7-7EEF-4EAB-9551-A4DC0EE5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C48-A1B7-4485-8ADB-F69097C6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C2A-F3F8-498A-B340-6C65A2F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153-4AA6-449C-8F68-2CCF21FC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F855-761B-4ECF-8ADE-9F4E53B122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5ACD-A60F-43CB-920B-05CC066427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IP-2 Air Qualit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AIR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 Dickerson, US E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kerson.phil@epa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bjectives and Envisioned Ro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  Contribute data that I collect and get data that you col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sioned role:  supply services to GEOSS. Represent EPA’s stakeholders – forecasters, modelers, monitoring personnel, and the public, in constructing apps that advance the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ervices, Data, Components and Other Inpu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981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67652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vices:  current – demo of WCS service;  future – you tell u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:  near real-time measurements of Ozone, PM2.5, PM10, and some other pollutants, from more than 3000 surface stations;  MSA-level AQI forecasts for nearly 400 cities;  future – fused surfaces (NOAA AQF model, satellite measuremen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nents:  AIRNow Gateway – US service-oriented system connected to AIRNow real-time database;  AIRNow-International Information Services – International analog to Gateway, will be piloted in Shanghai, Chi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 inputs – data from mobile monitor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xpectation, Desired Outcome from AIP-2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60020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ation:  barely controlled chaos, in the most positive sense; excitement;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red outcom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s for data sources and components that can be used alongside AIRNow to serve SB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rity and agreement on standards, best practices, and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r” sce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zation of the word AIR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3:23:17Z</dcterms:created>
  <dc:creator>Phil Dickerson</dc:creator>
  <dc:description/>
  <dc:language>en-US</dc:language>
  <cp:lastModifiedBy>Phil Dickerson</cp:lastModifiedBy>
  <dcterms:modified xsi:type="dcterms:W3CDTF">2008-09-26T03:45:43Z</dcterms:modified>
  <cp:revision>4</cp:revision>
  <dc:subject/>
  <dc:title>AIP-2 Air Quality</dc:title>
</cp:coreProperties>
</file>